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B81B-26D5-4BD5-81E9-4543F0457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F7B9-1D4F-49B1-8CDD-F4E5C29F3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D440-F00D-4325-A275-50B28547F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E89F-43A2-49FB-99FC-E6FF56A38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432A-1B90-41CC-B9D8-D5880B8E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C3E0-F847-454B-80A5-DBFFFEF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7583F-3C59-441C-8243-95079B7B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CA4CB-9573-49FB-83EB-6598B35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B575B-7E6B-4D4B-A9EB-86B6A6E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4D5C6-BB19-42B8-B1D4-DDACAB06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954F7-427F-4B6D-8130-BDA34E1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D24F-E2A7-4CC8-BA3D-B6817E1BA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C102-59A8-43AA-AD94-F68F854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78D72-F6C5-4C9E-9968-92DC152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C801-1287-49AB-B4AE-F410B194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90415-E366-4407-82B6-6659CC4A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343F4-F1AE-42E5-A62F-E5809382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9B80-5BA8-42E2-8BB5-7A79DBDE0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6195-A339-4C70-9E15-8D0E643D9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38E1-88FC-4976-8014-A9BDC5793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47B8-E368-43D8-B76A-97B4F8FB7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161D-7219-4632-A747-CC28B6A4D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EE2A-B767-4916-9801-D1772B5C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6BB5-86D6-4D6E-A014-F83F6C36B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B2B3-D366-4D8A-ACBA-EE6AA14F7A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9C81-D4D0-4F2A-8591-8708FB952DFD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8D26-2232-4A73-8008-CBB098DCCA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САВЕТИ ЗА БОРАВАК ИЛИ РАД У ТРОПСКИМ КРАЈЕВИМА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Проф. Др Жељко Мијаиловић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5C7-0085-4EDE-852B-82B7BA5EEEF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2" descr="C:\Users\Korisnik\Desktop\3jlk9lMaHR0cDovL29jZG4uZXUvaW1hZ2VzL3B1bHNjbXMvWVRVN01EQV8vODFlOTUwY2I3NjVkZDAzN2ZmOGVkOTA3MGY2ZGI2ODIuanBlZ5GTAs0EsACBAAE.jpg"/>
          <p:cNvPicPr/>
          <p:nvPr/>
        </p:nvPicPr>
        <p:blipFill>
          <a:blip r:embed="rId1"/>
          <a:stretch/>
        </p:blipFill>
        <p:spPr>
          <a:xfrm>
            <a:off x="1181160" y="198108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320" y="428760"/>
            <a:ext cx="75438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Жуте розниц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ококног менингити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Трбушног тиф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ле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ифтериј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ругих заразних болести (акутног вирусног хепатитиса Б, беснила, тетануса, малих бигиња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B213-296F-4EE1-A22E-506E6C7A5F7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ефинисане су три врсте вакцина за путнике у међународном саобраћају: обавезне, селективне и рутинс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бавезне су вакцине против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жуте грознице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за земље у којима је болест стално присутна или за земље које желе да спрече уношење болести, односно узрочника)  менингококне болести (коју захтева Саудијска Арабија за ходочаснике у Меку и Медин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лективне су вакцине против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флуенце, хепатитиса А, јапанског енцефалитиса, лајмске болести, менингококног менингитиса, пнеумококне болести, беснила, крпељског енцефалитиса, туберкулозе, трбушног тифуса и жуте грозниц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642C-4864-44B9-B87F-1E0EB793125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71360" y="713880"/>
            <a:ext cx="754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Рутинске вакцине су оне из 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обавезног календара имунизације сваке земљ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 Развијене земље захтевају од путника који ће дуже боравити у њима  податке о вакциналном статусу, везаном за одређене заразне болести сходно узрас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колико особе немају потпуни вакцинални статус који подразумева  календар имунизације морају се вакцинисати недостајућим вакцинама. За поједине заразне болести захтева се серолошко тестирање, као провера имунског стату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79F7-40FC-41A3-92CE-C1AD3041B55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Жута гро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Жута грозница је акутно вирусно хеморагично обољење које се преноси убодом зараженог комарца из рода Aedes и Haemogog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а вирусом жуте грознице може проузроковати тешку форму болести и смртни исх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кон периода инкубације који траје 3 до 6 дана, јавља се повишена температура, бол у мишићима, главобоља, грозница, губитак апетита, мучнина и повраћањ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д 15% заражених долази до крварења из уста, носа и желуца, тешких оштећења јетре и бубрега, а у 20-50% ових случајева болест се завршава смртним исхо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E517-E7FD-4D95-84FB-1FFE7BD5B52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C:\Users\Korisnik\Desktop\zuta-groznica-lijecenje.jpg"/>
          <p:cNvPicPr/>
          <p:nvPr/>
        </p:nvPicPr>
        <p:blipFill>
          <a:blip r:embed="rId5"/>
          <a:stretch/>
        </p:blipFill>
        <p:spPr>
          <a:xfrm>
            <a:off x="6215040" y="0"/>
            <a:ext cx="2928960" cy="164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Korisnik\Desktop\1833224-1645904.jpg"/>
          <p:cNvPicPr/>
          <p:nvPr/>
        </p:nvPicPr>
        <p:blipFill>
          <a:blip r:embed="rId6"/>
          <a:stretch/>
        </p:blipFill>
        <p:spPr>
          <a:xfrm>
            <a:off x="0" y="0"/>
            <a:ext cx="264312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066320" y="571320"/>
            <a:ext cx="75438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цењује се да годишње у свету оболи око 200.000 особа, а умре око 30.000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рој случајева жуте грознице расте у последње две деценије због опадања отпорности популације према инфекцији, сече шума, урбанизације, кретања становништва и климатских про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бољење се ендемски јавља у тропским областима Африке и Јужне Амер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трдесет и пет земаља у ендемским подручјима Африке и Јужне Америке, са преко 900 милиона становника, изложено је ризи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пулација из више од 16 афричких и 13 јужно-америчких земаља је у ризику (највећи ризик у Боливији, Бразилу, Колумбији, Еквадору и Перу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ако болест никада није пријављена у Азији, регион је под ризиком, због услова погодних за преношењ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276-7A84-4216-BA3E-FE076E6A07B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2" descr="C:\Users\Korisnik\Desktop\1833224-1645905.jpg"/>
          <p:cNvPicPr/>
          <p:nvPr/>
        </p:nvPicPr>
        <p:blipFill>
          <a:blip r:embed="rId9"/>
          <a:stretch/>
        </p:blipFill>
        <p:spPr>
          <a:xfrm>
            <a:off x="6286680" y="0"/>
            <a:ext cx="28573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акцинација је једина сигурна превентивна мера против жуте грозниц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акцина је безбедна, високо ефикасба и пружа заштиту за период од 10 год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штиту обезбеђује после 7 до 10 дана од апликације код 95% вакциниса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вакцинација се спроводи сваких 10 година (у случају поновног одласка у рузичне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обе које путују у ендемска жаришта Африке и Јужне Америке морају да поседују одговарајућу потврду о вакцинациј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обе које немају доказ о вакцинацији при уласку у земљу, могу бити спроведене у карантин у трајању од 6 д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FFA7-D47B-49F5-B1D7-289005CA91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~PP2598.WAV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320" y="571320"/>
            <a:ext cx="75438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Трбушни тиф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Трбушни тифус је инфекција танког и дебелог црева чији су узрочници различити серотипови бактерије 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lmonela  typh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оцењује се да у свету годишње оболи око 22 милиона особа, а преко 200.000 умре од трбушног тиф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Ризик од инфекције је велики за путнике који путују у Јужну Азију (6-30 пута већи у односу на друге дестина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Ризична подручја су и источна и југоисточна Азија, Африка, Кариби, централна и јужна Амер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A944-68F2-4754-849B-4637B1A4959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" descr="C:\Users\Korisnik\Desktop\240px-Typhoid_feverI.gif"/>
          <p:cNvPicPr/>
          <p:nvPr/>
        </p:nvPicPr>
        <p:blipFill>
          <a:blip r:embed="rId6"/>
          <a:stretch/>
        </p:blipFill>
        <p:spPr>
          <a:xfrm>
            <a:off x="2786040" y="4000680"/>
            <a:ext cx="3929040" cy="24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акцина против трбушног тифуса се препоручује особама старијим од 2 године, најмање 2 недеље пре путовања у зоне високог ризика, а посебно особама у хуманитарним, мировним и војним мисија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ако вакцина пружа заштиту у 50-80% вакцинисаних (са развојем краткотрајног поствакциналног имунитета), основ заштите чине мере неспецифичне превенциј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52B5-AF13-4027-95A5-40885926E1B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C:\Users\Korisnik\Desktop\higijena ruku.jpg"/>
          <p:cNvPicPr/>
          <p:nvPr/>
        </p:nvPicPr>
        <p:blipFill>
          <a:blip r:embed="rId3"/>
          <a:stretch/>
        </p:blipFill>
        <p:spPr>
          <a:xfrm>
            <a:off x="3357720" y="3929040"/>
            <a:ext cx="2109600" cy="158112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Менингококн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рочник: Neisseria meningitid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Манифестује се најчешће као менингитис а ређе као менингококна сеп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зервоари су оболеле особе и асимптоматске клицоноше, који чине 5-15% популације у ендемским пределима, а развоју болести доприноси пад имунитета популације до којег обично долази током зимских и пролећних месец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носи се капљичним пут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ступљеност менингококне болести је највиша у тзв. “појасу менингитиса” у субсахарској Африци, са честим епидемијама током периода децембар-мар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рогрупа А доминира у централној Африци, од Сенегала до Етиопије, у Непалу и Индиј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утници који одлазе у наведене крајеве су под ризиком нарочито током суве сезоне или епидемијског јављањ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97E-4537-4B67-9AD7-6F4DEDABA07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-5415120" y="-297720"/>
            <a:ext cx="19974600" cy="105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Mеningnокоnа bоlеst је zаrаznа bоlеst čiјi је uzrоčniк bакtеriја Neisseria meningitidis. Mаnifеstuје sе nајčе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ćе као mеningitis, а rеđе као mеningококnа sеpsа. Pеriоd inкubаciје trаје 2-10 dаnа (pеriоd оd izlоžеnоsti uzrоčniкu dо pојаvе prvih simptоmа). Bоlеst каrакtеri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е nаgli pоčеtак sа grоznicоm, visокоm tеmpеrаturоm, јакоm glаvоbоljоm, uкоčеnim vrаtоm, оsеćајеm mučninе, pоvrаćаnjеm, fоtоfоbiјоm, čеstо i prоmеnjеnim psihičкim stаnjеm.</a:t>
            </a:r>
            <a:br>
              <a:rPr sz="700"/>
            </a:b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Rеzеrvоаri su оbоlеlе оsоbе i аsimptоmаtsке кlicоnо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е које činе 5-15% pоpulаciје u еndеmsкim prеdеlimа, а rаzvојu bоlеsti pоgоduје pаd imunitеtа коd dеcе i mlаđih оdrаslih оsеtljivih оsоbа dо којеg оbičnо dоlаzi tокоm zimsкih i prоlеćnih mеsеci. Bоlеst sе prеnоsi каpljičnim putеm.</a:t>
            </a:r>
            <a:br>
              <a:rPr sz="700"/>
            </a:b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Uzrоčniк bоlеsti (mеningокок) rеgistrоvаn је u cеlоm svеtu, а zаstupljеnоst mеningококnе bоlеsti nајvi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а је u tzv. "pојаsu mеningitisа" u pоdsаhаrsкој Аfrici, sа čеstim еpidеmiјаmа tокоm pеriоdа dеcеmbаr-mаrt. Dо sаdа је idеntifiкоvаn vеliкi brој grupа оvе bакtеriје: А, B, C, D X, Y, Z , W 135. Sеrоgrupа А dоminirа u cеntrаlnој Аfrici, оd Sеnеgаlа dо Еtiоpiје, u Nеpаlu i Indiјi. Putnici којi оdlаzе u pоmеnutе zеmljе su pоd riziкоm оd mеningококnе bоlеsti nаrоčitо tокоm suvе sеzоnе ili еpidеmiјsкоg јаvljаnjа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Hоdоčа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ćе tокоm hаdžiluка u Sаudiјsкој Аrаbiјi је pоvеzаnо sа riziкоm оd оbоlеvаnjа оd mеningококnоg mеningitisа. Pоvrаtnici iz оvоg pоdručја којi nisu vакcinisаni i njihоvi коntакti čеstо оbоlеvајu i uzrокuјu nаstаnак impоrtоvаnih еpidеmiја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Vакcinаciја prоtiv mеningококnе bоlеsti prеpоručuје sе svim оsоbаmа које putuјu u hipеrеndеmsка i еndеmsка pоdručја, nаrоčitо ако ćе dužе tаmо bоrаviti i оstvаrivаti коntакtе sа lокаlnim stаnоvni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vоm. Vакcinаciја sе prеpоručuје i оsоbаmа које ćе bоrаviti u zаtvоrеnim коlекtivimа (каsаrnаmа, коlеdžimа, intеrnаtimа, nа brоdоvimа).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Vакcinаciја sе sprоvоdi dаvаnjеm јеdnе dоzе, а rеvакcinаciја u rаzmакu nе кrаćеm оd tri gоdinе оd izvr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еnе vакcinаciје u slučајu dа pоstоје indiкаciје. Zа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а sе pоstižе nакоn 2 nеdеljе оd dаvаnjа vакcinе, коd оsоbа stаriјih оd 18 mеsеci živоtа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Zа оsоbе које putuјu nа gоdi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njе hоdоčа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ćе u Sаudiјsкu Аrаbiјu u sкlаdu sа prеpоruкаmа SZО zаhtеvа sе primеnа кvаdrivаlеntе mеningококnе vакcinе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71360" y="713880"/>
            <a:ext cx="7543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Ходочашће током хаџилука у Саудијској Арабији је повезано са ризиком оболљевања од менингококног менингити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Повратници из овог подручја који нису вакцинисани често обољевају и узрокују настанак импортованих епидеми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Вакцинација се препоручује свим особама које путују у хиперендемска и ендемска подручја, нарочито ако ће тамо дуже остати и ступати у контакт са локалним становништ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Вакцинација се препоручује и особама које ће боравити у затвореним колективима (касарне, колеџи, интернати, бродов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5A3C-67B5-41C1-937E-D9964A0A75C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66320" y="571320"/>
            <a:ext cx="75438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азоконстрикција крвних судова сплахничке рег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азодилатација крвних судова у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јачано лучење глукокортико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јачано лучење алдостерона и АД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Тахикард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већан ризик од артеријске хипертензије и исхемиј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Колапс, хиперкоагулабил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већан ризик од артеријске хипертензије и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схемије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климатизација (1-3 седмиц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1A51-5DE2-4949-90EF-859639B0573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Down Arrow 6"/>
          <p:cNvSpPr/>
          <p:nvPr/>
        </p:nvSpPr>
        <p:spPr>
          <a:xfrm>
            <a:off x="4000680" y="2714760"/>
            <a:ext cx="483840" cy="57132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Down Arrow 7"/>
          <p:cNvSpPr/>
          <p:nvPr/>
        </p:nvSpPr>
        <p:spPr>
          <a:xfrm>
            <a:off x="4000680" y="4000680"/>
            <a:ext cx="483840" cy="57132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Вакцинација се спороводи давањем једне дозе, а ревакцинација у размаку не краћем од 3 године од извршене вакцинације, у случају постојања индикаци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Заштита се постиже након 2 недеље од давања вакцине, код особа старијих од 18 месеци живо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За особе које путују на годишње ходочашће у Саудијску Арабију, у складу са препорукама СЗО, захтева се примена квадривалентне менингококне вакци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A841-45EC-4390-A00F-B64F43E9345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66320" y="642600"/>
            <a:ext cx="75438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Кол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новне мере првенције-при конзумирању хране и воде бити веома обазрив (укључујући и лед): прокувано, скувано, ољуштено или заборавите све то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ти само прокувану воду или воду дезинфиковану хлорним, јодним или другим препаратима. Средстава за дезинфекцију су доступна у апотека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поручује се конзумирање вруће кафе или чаја, вина, пива, газиране воде или сокова, у оригиналним фабричким паковањи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зумирање леда у пићу се не препоручује, јер се не зна порекло воде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40F-93A9-48E1-B9FD-95EFDE71396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66320" y="571320"/>
            <a:ext cx="75438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Јести претходно термички обрађену храну; и док је топла након сервирања.Кувана храна може да се чува на собној температури неколико сати и да се конзумира без накнадног загревањ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онзумирање сирових морских плодова и друге сирове хране се не препоручује. Изузетак су воће и повреће, које треба добро опрати хигијенски исправном водом, а потом ољушти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Прокувати непастеризовано млеко пре употр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Сладолед може бити контаминиран (нарочито онај које се не пакује фабрички) и саветује се избегавањ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е конзумирати храну купљену на улици. Ако се конзумира водити рачуна да буде добро термички обрађена у вашем присуству и да не садржи делове који нису термички обрађени а накнадно убачени у обр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BB8B-9221-42F7-8928-202E2931078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066320" y="642600"/>
            <a:ext cx="75438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Ињекциона вакцина против колере, коришћена до скоро, даје некомплетну заштиту која кратко трајеи већ дуго се не препоручуј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ова, орална вакцина даје добру заштиту у трајању од 2 године. И ова вакцина не обезбеђује заштиту 100%, па су неспецифичне мере најзначајниј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Даје се у две дозе са размаком од 10 дана, а заштита настаје након 10 дана од давања друге доз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и једна земља не тражи сертификат о вакцинацији против колере као услов за улазак у земљ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6C68-6A75-4A74-B439-8C363891780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Хемиопрофилакса малар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нтималаричну профилаксу треба узимати 2 недеље пре одласка, за време боравка и 4 недеље по повратку из ендемичних крај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А (ендемска подручја у којима су плазмодијуми осетлљиви на хлорок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CHLOROQU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, таблете 300 mg, једна тбл.недељно, деца: 5 mg/кg телесне мас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преосетљивост на хлорокин, епилепсија, псоријаз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C20A-B9AF-4ED7-9DA2-3563261D67B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5790960" y="128160"/>
            <a:ext cx="20726280" cy="20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Inјекciоnа vакcinа prоtiv коlеrе, коri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ćеnа dо sкоrо, dаје nекоmplеtn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која кrаtко trаје, lаžnu sigurnоst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i vеć dugо sе nе prеpоručuје. Nоvа оrаlnа vакcinа dаје dоbr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u trајаnju dо dvе gоdinе. I оvа vакcinа nе оbеzbеđuје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u 100%, pа su оsnоvnе mеrе prеvеnciје (higiјеnе) bаzičnе u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i оd оvе bоlеsti. Оvа vакcinа sе dаје u dvе dоzе sа rаzmакоm оd 10 dаnа, а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tа nаstаје nакоn 10 dаnа оd dаvаnjа drugе dоzе. Niјеdnа zеmljа nе zаhtеvа sеrtifiкаt о vакcinаciјi prоtiv коlеrе као uslоv zа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ulаzак u zеmlju.</a:t>
            </a: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Б (ендемска подручја у којима постоји резистенција плазмодијума на хлорокин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CHLOROQUINE + PROGUANI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, 100 mg 200 m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Једна комбинована таблета днев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преосетљивост на хлорокин и/или прогванил, инсуфиијенција јетре и бубрега, епилепсија, 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Величина таблете није адекватна за особе са телесном тежином мањом од 50 к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одласка, све време боравка и 4 недеље након повратка из маларичног подруч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ОНА Ц (ендемска подручја у којима постоји висока резистенција plаzmоdiјum fаlcipаrumа на хлорок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Calibri"/>
              </a:rPr>
              <a:t>MEFLOQUINE (Lariam),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таблете од 250 m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јеdnа tаblеtа nеdеljn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Деца: 5 mg/кg телесне масе недељ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5B4-631C-4F85-A7D9-D79BAD2ACB2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Контраиндикације: тел.тежина испод 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g, </a:t>
            </a: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трудноћа, преосетљивост на мефлокин, неуропсихијатријски поремећаји (укључујући депресију), епилепсија, конвулзије, терапија мефлокином у претходне 4недеље, не препоручује се особама чије занимање захтева фину координацију покрета и просторну оријентацију (пилоти, возачи..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Напомена: не узимати мефлокин унутар 12 сати од примене кинина и унутар 3 дана од апликације живих бактеријских вакцина (вакцина против трбушног тифуса и колере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ahoma"/>
              </a:rPr>
              <a:t>Ампицилин и тетрациклин, уколико се примењују истовремено, могу повећати ниво мефлокина у кр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8B98-DEF4-4D5F-8498-40A483DC400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TOVAQUONE + PROGUANIL (Malarone), 250 mg 100 mg, једна комбинована таблета дне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осетљивост на састојке лека, тешка бубрежна инсифицијенција, телесна тежина мања од 11 к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стовремена употреба рифампицина, рифабутина, метоклопрамида и тетрациклина, доводи до смањења концентрације маларона у плаз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 пре поласка, све време боравка и 7 дана након повратка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0B52-28AB-4FAB-880D-D09E394724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DOXYCYCLI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таблете од 100 mg, једна таблета днев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: трудноћа и дојење, млађи од 8 година, преосетљивост на тетрациклине, дисфункција јет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помена: доксициклин повећава осетљивост коже на сунчеву светлост, па особе са осетљивом кожом треба да користе УВА заштиту и избегавају директно излагање сунчевој светл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зимати 1 дан пре одласка, све време боравка и 4 недеље по повратку из маларичног подруч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случају да нисте у могућности да набавите препоручене лекове, као и за све друге информације везане за врсту и начин употребе антималаричних лекова, обратите се здравственој служби земље у којој се налази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363-D243-4D52-9238-60EABA9EE41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збор кандидата-физолошки стату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25-40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Особа која није гојаз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удница у првој половини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ал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збегавати најтоплији период (бирати најсвежије годишње доб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збегаватаи стресове аклиматизације (дужи а ређи одласци тј. боравци-нпр. на 2 год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ува клима-погодује РА или ХОБП, погоршава нефролитијазу и гих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71DC-3264-4CE1-80E9-527C54525D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56800" y="285480"/>
            <a:ext cx="7753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и видови тропске климе (коморбидите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чана инсуфициј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Кардиоми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Коронарн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ртеријска хипер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ереброваскулар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суфицијенција надбубре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ипертир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убрежна инсуфициј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уберкулоза (актуелна или до две године од завршетка леч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истемске болести везивног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к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шке психозе и неур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4769-0339-4507-913D-17667623327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слови рада и боравк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Град или сеоска сре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физички рад ( адекватност услова ра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сихолошки профил кандид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азговор са кандидат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намнеза и физикални пре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пска патолог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Климатски усл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слови р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оцијално окруж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Културолошки, етички и верски амбиј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2D4F-4C5A-4BD7-ADA3-AFCDBDA2F66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42960" y="713880"/>
            <a:ext cx="79675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актични сав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степено излагање метео-условима (најтоплији део да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зирани физички рад (сходно метео-приликам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Шешир, тамне наочаре, светла пеглана оде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декватна обућа (не босоно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Ход “вукући ноге по тлу или морском дну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нос течности, флаширана течност, прокувавање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влажним тропима довољно соли у исхр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Термичка обрада хране (меса, поврћ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бегавати животиње јарких боја за исхрану (рибе и сл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бегавати гонаде, јетру, изнутрице морских животиња за исхра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оће љушти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Хлеб подгрејати или изложити пламену пре употреб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A4EF-E910-495E-9FB5-82CE8F58681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довна хигијена тела и ру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Хигијена просто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Мреже (балдахини) око кре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декватна хигијена клима уређа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пелен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санација терена око места стан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B2AA-CC94-4196-BD10-9CF72970BED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Превенција заразних 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специфич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Изолација, правилна диспозиција излуче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утеви преноше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Фекооралн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Капљичне инфекције (клима уређај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Инфекције које се преносе вектор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Полно преносиве 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459B-B630-424C-91C9-CBF6543D019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66320" y="928440"/>
            <a:ext cx="75438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пецифич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аси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Стандардни гама глобулини, хиперимуни гама глобули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Активна (вакцинациј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складу са правилником о имунизацији и међународном здравственом правилнику, путници у међународно саобраћају се вакцинишу ако путују у земље које захтевају одређену вакцинацију и према епидемиолошким индикациајама, против следећих боле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503-2390-4AB0-B6C2-49D2DDD282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55:03Z</dcterms:modified>
  <cp:revision>354</cp:revision>
  <dc:subject/>
  <dc:title>Slide 1</dc:title>
</cp:coreProperties>
</file>